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BA7-D822-4526-BC6D-F9EC127A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E59-441B-4C57-B673-35E014C9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29D-93F1-464D-9BB8-ABAC0ADD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CB1-2F5E-4BD2-AA4F-A653A0E7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2E8-E0C6-4781-BEDE-2FA15C5E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3C9-B23D-43EB-A377-CC1A2C3F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A1A-8911-43A6-8D56-825303EA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1B8-5F15-4CC6-A949-AD018C20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5F7-3DAE-499F-A101-C75739CA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AC5-651F-4517-AFA5-F176D71E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8B9-0F76-4797-AB0B-9C721C9F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F59-7A3A-4044-A16E-9D208647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728C-4E4E-4FDD-ADFF-6DF556E67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you carry God’s Wisd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peak forth God’s W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embody God’s Pres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ver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9:47Z</dcterms:created>
  <dc:creator>Anon Anon</dc:creator>
  <dc:description/>
  <dc:language>en-US</dc:language>
  <cp:lastModifiedBy>Anon Anon</cp:lastModifiedBy>
  <dcterms:modified xsi:type="dcterms:W3CDTF">2005-08-09T05:27:25Z</dcterms:modified>
  <cp:revision>7</cp:revision>
  <dc:subject/>
  <dc:title>PowerPoint Presentation</dc:title>
</cp:coreProperties>
</file>